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43290-CE11-42F0-A5E1-F471AAEF83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377B7-99E7-41DB-A0A2-C8B945BF1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EF92F-FB21-4928-BEA4-664935A333F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951-73D3-4267-9AF3-2D39B48D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E90-5F72-4A81-AAE6-A3685DB0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FB2-4664-4237-8B6D-BDB7981E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B84-595B-429B-8215-1C7B130D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DC160-8119-4A00-AF7B-3B6942E9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8FAD5-B6B7-4448-9C13-846A2915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790C2-ED7E-4E1A-84E3-08B2A99A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77CBA-D029-484C-A14F-1B83CAA3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CEA80-D14F-4E18-9A9B-72975766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2115B-3ABE-4EA0-BF03-77E62C6B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13690-AA4B-43A7-B83C-DB57E05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EB0-EB6B-4449-A81B-E40C421C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7910D-CEF2-4390-9B67-CF78CEDB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4A0FF-9ADC-408F-BEE6-B0789A5D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48BFA-DE48-4AE4-941C-9B7EAAF0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D05DF-F13C-4604-8C54-270A0421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706D7-B75B-4DB8-B99F-BC79A26C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3C509-6F69-41DA-9CDB-AD5E3E2A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15097-8835-4B9D-A187-6C7023AC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FE6A6-B13F-471B-B82B-E4B0D8FD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FAE5E-C28C-4029-836B-7DE9A19C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75938-74E4-40A1-BF2F-9557BC02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914-EC14-45D4-A188-DDFBC7E0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202CA-FCB2-45DA-8D9B-E8F23E36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D457C-6D42-4FB4-A925-7F06A180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F35E6-09A0-4474-A93E-C9756EEF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52B51-0BF7-4891-B05E-D5A04F65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67E81-DB37-42D5-8B32-2BEDD0FA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BA8D9-C06E-4AE4-BF3D-EE4EC455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2CC3F-5CA7-48FA-AD57-487E3FD0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57FEB-197D-4AF0-A434-617A0A84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7024F-1578-491E-A9FD-6C322A45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6E786-97B3-49D2-9C7A-AED3BB2D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138-AE7E-4590-B480-97910EE7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4F214-92B1-42B3-A2A9-7C07265C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A376C-229C-48C3-A51E-6D0272E8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144838-007C-4A1C-B4B0-308577AB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0D610-38AC-4CF0-8387-D243590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2A46B-5358-4C2B-8C23-1E004ED4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5355B-CE47-4A0A-95A2-50456C3C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DD107-CA58-4D63-807D-CB334EE8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B9773-C348-4321-B1B5-6E3E74CF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BD95C-08EE-4259-80BB-4D52F099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0DC-5C93-4E0E-9867-718F3058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FED-C965-4120-813E-FF39DE18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31C-9CA7-44BC-AAAF-E0D95F7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1AC-EDB6-436E-ABEF-EAB1BAF7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733-BFE7-49EF-B867-4542ECC9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BDA4C-F9D8-4796-83FE-2573B3F1997A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F2C05-55BA-4E7A-9C8E-B5680281931F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07D66-5882-4C57-94AE-477F7925FAF5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A6F5B-CF7E-42BF-A214-884048BB7C2C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99988-FC85-490B-BDCC-B8BB136BA55C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8E330-FC86-4646-8BC1-F73C9BA1B213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1BFCD-B563-4583-B266-834E41590EE0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684BF-63E8-4801-8EC8-35BB4CAE2474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restandards.org/" TargetMode="External"/><Relationship Id="rId2" Type="http://schemas.openxmlformats.org/officeDocument/2006/relationships/hyperlink" Target="http://www.corestandards.org/" TargetMode="External"/><Relationship Id="rId3" Type="http://schemas.openxmlformats.org/officeDocument/2006/relationships/hyperlink" Target="http://www.corestandards.org/the-standards/english-language-arts-standards/reading-informational-text-6-12/grade-11-12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desas.org/Standard/CommonCore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149400"/>
            <a:ext cx="8689680" cy="61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ransition to Common Core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 Literacy Standards in the Content Areas</a:t>
            </a:r>
            <a:br>
              <a:rPr sz="3600"/>
            </a:br>
            <a:br>
              <a:rPr sz="3600"/>
            </a:br>
            <a:r>
              <a:rPr b="1" i="1" lang="en-US" sz="3100" spc="-1" strike="noStrike">
                <a:solidFill>
                  <a:srgbClr val="ffffff"/>
                </a:solidFill>
                <a:latin typeface="Palatino Linotype"/>
              </a:rPr>
              <a:t>FCASD Secondary Program Overview</a:t>
            </a:r>
            <a:br>
              <a:rPr sz="31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prepared with support from the AIU - Christopher Caton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 June 2012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896760" y="3902040"/>
            <a:ext cx="7712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Literacy Standards in: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Science and 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Writing Standards in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 Science and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FCASD is addressing this as  “literacy in all content areas”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3816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16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Rectangle 2"/>
          <p:cNvGrpSpPr/>
          <p:nvPr/>
        </p:nvGrpSpPr>
        <p:grpSpPr>
          <a:xfrm>
            <a:off x="1712880" y="3986280"/>
            <a:ext cx="3645000" cy="1079280"/>
            <a:chOff x="1712880" y="3986280"/>
            <a:chExt cx="3645000" cy="1079280"/>
          </a:xfrm>
        </p:grpSpPr>
        <p:pic>
          <p:nvPicPr>
            <p:cNvPr id="198" name="Rectangle 2" descr=""/>
            <p:cNvPicPr/>
            <p:nvPr/>
          </p:nvPicPr>
          <p:blipFill>
            <a:blip r:embed="rId3"/>
            <a:stretch/>
          </p:blipFill>
          <p:spPr>
            <a:xfrm>
              <a:off x="1712880" y="3986280"/>
              <a:ext cx="3645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811160" y="4052880"/>
              <a:ext cx="345456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81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Non-English/Math Cours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68360" y="2355840"/>
            <a:ext cx="82533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te Standards Art &amp; Literature in History/Social Studies, Science, &amp; Technical Subjects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www.corestandards.org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2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 -- Select the Standards Tab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And/Or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Navigate Website:</a:t>
            </a:r>
            <a:r>
              <a:rPr b="1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3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5760" y="1708200"/>
            <a:ext cx="823248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600" y="241200"/>
            <a:ext cx="8632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Standards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rc 1"/>
          <p:cNvSpPr/>
          <p:nvPr/>
        </p:nvSpPr>
        <p:spPr>
          <a:xfrm>
            <a:off x="344520" y="716040"/>
            <a:ext cx="840096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Arc 2"/>
          <p:cNvSpPr/>
          <p:nvPr/>
        </p:nvSpPr>
        <p:spPr>
          <a:xfrm>
            <a:off x="363600" y="1579680"/>
            <a:ext cx="8400960" cy="761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44520" y="2658960"/>
            <a:ext cx="15620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39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792600" y="2658960"/>
            <a:ext cx="154296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468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78840" y="2658960"/>
            <a:ext cx="14666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1" name="Straight Connector 8"/>
          <p:cNvSpPr/>
          <p:nvPr/>
        </p:nvSpPr>
        <p:spPr>
          <a:xfrm flipH="1">
            <a:off x="1125360" y="166860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2" name="Straight Connector 9"/>
          <p:cNvSpPr/>
          <p:nvPr/>
        </p:nvSpPr>
        <p:spPr>
          <a:xfrm flipH="1">
            <a:off x="2849040" y="161928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Straight Connector 10"/>
          <p:cNvSpPr/>
          <p:nvPr/>
        </p:nvSpPr>
        <p:spPr>
          <a:xfrm flipH="1">
            <a:off x="4564080" y="161928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4" name="Straight Connector 11"/>
          <p:cNvSpPr/>
          <p:nvPr/>
        </p:nvSpPr>
        <p:spPr>
          <a:xfrm>
            <a:off x="5850000" y="1592280"/>
            <a:ext cx="42840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5" name="Straight Connector 12"/>
          <p:cNvSpPr/>
          <p:nvPr/>
        </p:nvSpPr>
        <p:spPr>
          <a:xfrm>
            <a:off x="6688080" y="1619280"/>
            <a:ext cx="13240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61800" y="4390920"/>
            <a:ext cx="8307360" cy="1621080"/>
          </a:xfrm>
          <a:prstGeom prst="rect">
            <a:avLst/>
          </a:prstGeom>
          <a:noFill/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1211400" y="13446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Right Arrow 15"/>
          <p:cNvSpPr/>
          <p:nvPr/>
        </p:nvSpPr>
        <p:spPr>
          <a:xfrm>
            <a:off x="487440" y="44686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Right Arrow 16"/>
          <p:cNvSpPr/>
          <p:nvPr/>
        </p:nvSpPr>
        <p:spPr>
          <a:xfrm>
            <a:off x="487440" y="479412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Right Arrow 17"/>
          <p:cNvSpPr/>
          <p:nvPr/>
        </p:nvSpPr>
        <p:spPr>
          <a:xfrm>
            <a:off x="517680" y="5419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Right Arrow 18"/>
          <p:cNvSpPr/>
          <p:nvPr/>
        </p:nvSpPr>
        <p:spPr>
          <a:xfrm>
            <a:off x="506520" y="50925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2" name="TextBox 44"/>
          <p:cNvSpPr/>
          <p:nvPr/>
        </p:nvSpPr>
        <p:spPr>
          <a:xfrm>
            <a:off x="792000" y="439092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820800" y="460368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811080" y="501480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822240" y="5270400"/>
            <a:ext cx="78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Appendix D: Literacy standards for History and Social Studies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6" name="TextBox 49"/>
          <p:cNvSpPr/>
          <p:nvPr/>
        </p:nvSpPr>
        <p:spPr>
          <a:xfrm>
            <a:off x="2046240" y="266544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Rectangle 50"/>
          <p:cNvSpPr/>
          <p:nvPr/>
        </p:nvSpPr>
        <p:spPr>
          <a:xfrm>
            <a:off x="3962520" y="27511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8" name="Rectangle 51"/>
          <p:cNvSpPr/>
          <p:nvPr/>
        </p:nvSpPr>
        <p:spPr>
          <a:xfrm>
            <a:off x="315720" y="266220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Rectangle 52"/>
          <p:cNvSpPr/>
          <p:nvPr/>
        </p:nvSpPr>
        <p:spPr>
          <a:xfrm>
            <a:off x="5838480" y="265752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Rectangle 53"/>
          <p:cNvSpPr/>
          <p:nvPr/>
        </p:nvSpPr>
        <p:spPr>
          <a:xfrm>
            <a:off x="7321680" y="2620800"/>
            <a:ext cx="142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1" name="TextBox 55"/>
          <p:cNvSpPr/>
          <p:nvPr/>
        </p:nvSpPr>
        <p:spPr>
          <a:xfrm>
            <a:off x="343080" y="282888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necessary  component of an effective,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2" name="TextBox 56"/>
          <p:cNvSpPr/>
          <p:nvPr/>
        </p:nvSpPr>
        <p:spPr>
          <a:xfrm>
            <a:off x="2068560" y="3352680"/>
            <a:ext cx="1563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3792600" y="3282840"/>
            <a:ext cx="1542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TextBox 58"/>
          <p:cNvSpPr/>
          <p:nvPr/>
        </p:nvSpPr>
        <p:spPr>
          <a:xfrm>
            <a:off x="5468760" y="284472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TextBox 63"/>
          <p:cNvSpPr/>
          <p:nvPr/>
        </p:nvSpPr>
        <p:spPr>
          <a:xfrm>
            <a:off x="7321680" y="3006720"/>
            <a:ext cx="14238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Right Arrow 33"/>
          <p:cNvSpPr/>
          <p:nvPr/>
        </p:nvSpPr>
        <p:spPr>
          <a:xfrm>
            <a:off x="515880" y="57243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7" name="TextBox 65"/>
          <p:cNvSpPr/>
          <p:nvPr/>
        </p:nvSpPr>
        <p:spPr>
          <a:xfrm>
            <a:off x="865080" y="556884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2268360" y="73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062000" y="584280"/>
            <a:ext cx="710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PA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English &amp; Math Courses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450720" y="2690640"/>
            <a:ext cx="8271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86660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6"/>
          <p:cNvGrpSpPr/>
          <p:nvPr/>
        </p:nvGrpSpPr>
        <p:grpSpPr>
          <a:xfrm>
            <a:off x="204840" y="1554120"/>
            <a:ext cx="6653160" cy="4097160"/>
            <a:chOff x="204840" y="1554120"/>
            <a:chExt cx="6653160" cy="4097160"/>
          </a:xfrm>
        </p:grpSpPr>
        <p:sp>
          <p:nvSpPr>
            <p:cNvPr id="244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5" name="Line 8"/>
            <p:cNvSpPr/>
            <p:nvPr/>
          </p:nvSpPr>
          <p:spPr>
            <a:xfrm flipH="1">
              <a:off x="2864520" y="229068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484880" y="2290680"/>
              <a:ext cx="0" cy="2729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5388120" y="229068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1445760" y="2290680"/>
              <a:ext cx="1117440" cy="10782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9" name="Text Box 12"/>
            <p:cNvSpPr/>
            <p:nvPr/>
          </p:nvSpPr>
          <p:spPr>
            <a:xfrm>
              <a:off x="204840" y="337248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5702760" y="409608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2017080" y="377892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3749760" y="4783320"/>
              <a:ext cx="1372680" cy="8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53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-87480" y="353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09400" y="1643040"/>
            <a:ext cx="8267400" cy="46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Increase depth of knowledge with metacognition development throughout all grade levels bands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Metacognitive development through skill acquisition: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memo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comprehens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elf-regulat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Spiral of learning that revisits metacognitive development (learning strategies)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Overall Chan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328680" y="304920"/>
            <a:ext cx="727704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” tool; DOK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8680" y="1698480"/>
            <a:ext cx="815328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A tool and scale of cognitive demand levels (thinking)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to align standards with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Based on the research of </a:t>
            </a: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Norman Webb, 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fines the 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ceiling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 or highest DOK level for each Core Content standard for the state assess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Guides item development for state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1" name="Picture 6" descr="MCj01875870000[1]"/>
          <p:cNvPicPr/>
          <p:nvPr/>
        </p:nvPicPr>
        <p:blipFill>
          <a:blip r:embed="rId1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tle 1"/>
          <p:cNvSpPr/>
          <p:nvPr/>
        </p:nvSpPr>
        <p:spPr>
          <a:xfrm>
            <a:off x="457200" y="3254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Arial"/>
              </a:rPr>
              <a:t>Depth of Knowledge Levels (DOK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28680" y="1044720"/>
          <a:ext cx="8358120" cy="558468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1184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42377-35A4-4F9E-8561-E8FAFD87FE9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150660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279360" y="703440"/>
            <a:ext cx="8178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Explor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Cognitive Rigor Matrix”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9" name="TextBox 3" descr=""/>
          <p:cNvPicPr/>
          <p:nvPr/>
        </p:nvPicPr>
        <p:blipFill>
          <a:blip r:embed="rId1"/>
          <a:stretch/>
        </p:blipFill>
        <p:spPr>
          <a:xfrm>
            <a:off x="738360" y="3067200"/>
            <a:ext cx="783252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Equalizer DI PlnngTool copy.pdf"/>
          <p:cNvPicPr/>
          <p:nvPr/>
        </p:nvPicPr>
        <p:blipFill>
          <a:blip r:embed="rId1"/>
          <a:stretch/>
        </p:blipFill>
        <p:spPr>
          <a:xfrm>
            <a:off x="1981080" y="914400"/>
            <a:ext cx="5220000" cy="55753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"/>
          <p:cNvSpPr/>
          <p:nvPr/>
        </p:nvSpPr>
        <p:spPr>
          <a:xfrm>
            <a:off x="0" y="88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; Equalizer Planning Tool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30120" y="1957320"/>
            <a:ext cx="84330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sider appropriateness in task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The zone of proximal development has been defined as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the distance between the actual developmenta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level as determined by independent problem solving </a:t>
            </a: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level of potential development as determined through problem solving under adult guidance, or in collaboration with more capable peer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”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(Vygotsky, 1978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In other words, it is the range of abilities that a person has to perform tasks with assistance, but cannot yet perform independently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0" y="63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igor and ZPD -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he Zone of Proximal Development (ZPD)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130720" y="158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Producing Cognitive Sweat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76" name="Picture 2" descr="http://www.scientificamerican.com/media/inline/does-brain-size-matter_1.jpg"/>
          <p:cNvPicPr/>
          <p:nvPr/>
        </p:nvPicPr>
        <p:blipFill>
          <a:blip r:embed="rId1"/>
          <a:stretch/>
        </p:blipFill>
        <p:spPr>
          <a:xfrm>
            <a:off x="1387440" y="1122480"/>
            <a:ext cx="5438880" cy="3473280"/>
          </a:xfrm>
          <a:prstGeom prst="rect">
            <a:avLst/>
          </a:prstGeom>
          <a:ln w="0">
            <a:noFill/>
          </a:ln>
        </p:spPr>
      </p:pic>
      <p:sp>
        <p:nvSpPr>
          <p:cNvPr id="277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8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0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3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4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5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387440" y="4554360"/>
            <a:ext cx="56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Meeting the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igor of the Common Cor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52360" y="1155240"/>
            <a:ext cx="8748720" cy="538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ontinuation of NCLB encouraged by refined educational ideology and direc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tent: raise educational rigor and achieve state/national standard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48 States adopted Common Core or version thereof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PA has altered Common Core to a minimal extent to  meet existing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a) assessment tools expectation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b) common language use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Transition timeline: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phase in beginning in 2012 – 2013; guided by AIU Consultant &amp;                     FCASD Think Tank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expectation for integration of practices in the 2013 – 2014 school year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03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Leading to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Literacy Standards in the Content Area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23560" y="1498680"/>
            <a:ext cx="87678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Based on a range of national and internationally benchmarked assessments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1. Intensity of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roficiency in most state level standardized assessments fall below the proficiency on the NAEP  (nation’s  report card)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erformance declines in upper grades -  students lose momentum in high school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tudent readiness for college/work at an all time low.   Inadequat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Verbal reasoning ability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Understanding of words us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Background knowledge about domains represent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Familiarity with semantic and syntactic structures that assist with the understanding between relationships and IDEA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43000" y="1733400"/>
            <a:ext cx="872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Communications on a national level: 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discrepancy in proficiency measures across states – uneven student expectations - lack of focused guideposts for parents, educators, student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International measures &amp; comparison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: country falling behind; U.S. curriculum tends to be wide as  opposed to deep - compared with other successful countrie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rofile of a Common Core Graduat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98080" y="1003320"/>
            <a:ext cx="8458200" cy="570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Responsive to varying audience, points of view, tasks, purpose, discipline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dependent learner and thinker --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ocus on metacognition: self assessment, goal setting/plan-making….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; able to comprehend and critique works of quality and substance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Values evidence and supports related to argu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Development of skills and attributes in the areas of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mmunic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llabor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eativity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itical thinking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chnology and digital media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Understanding of other Perspectives/Cultur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 high degree of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rigor, metacognition,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nd student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collabora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Emphasis on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non-fic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occurs throughout the grades as well as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increasing the amount of student reading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Technology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embedded  throughout learning experiences and emphasis on the use of digital resource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on a daily basis for a variety of purpos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Relevant levels of Text complexity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- prominent addition (with exemplars)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pecificity 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nd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caffolding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of standards provides vertical articulation to support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xt complexity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Text connections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throughout the grade levels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26560" y="2179440"/>
            <a:ext cx="831708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Foundational skill acquired K-5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tent-area subjects incorporation and cross-curricular implementation of reading &amp; writing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ELA/Literacy Common Core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23:49:02Z</dcterms:created>
  <dc:creator>Teacher FCASD</dc:creator>
  <dc:description/>
  <dc:language>en-US</dc:language>
  <cp:lastModifiedBy>Teacher FCASD</cp:lastModifiedBy>
  <cp:lastPrinted>2012-06-04T17:59:55Z</cp:lastPrinted>
  <dcterms:modified xsi:type="dcterms:W3CDTF">2012-06-07T02:38:47Z</dcterms:modified>
  <cp:revision>92</cp:revision>
  <dc:subject/>
  <dc:title>PA Common Core Standards</dc:title>
</cp:coreProperties>
</file>